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2640" y="685440"/>
            <a:ext cx="45687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AFC7D7-E46A-4B9B-A290-999229AA9199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FCFDC-01D9-4280-8C75-5EBACE4A2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7EAD7-2E1C-454D-86A2-C068E3EB3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DCA89-E5E5-4A12-904C-1C0425A06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200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92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200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92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85DB6-56DC-43EF-A7BC-31863D502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B7DF6-CE69-4B69-8344-F9F2F5148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B8509-5C7E-4EC2-A3F1-905BF6EC0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D5482-5819-4742-B170-CC158B727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83D11-876E-49A9-A95C-22FB17F28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2A457-5F70-4084-844F-C6806226E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CCF91-AFE3-40E1-A0B7-75538E1BD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B05ED-CCA5-4B9E-B414-5009934E4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736FC-D4D4-4509-A440-372AA179D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1800" indent="-27180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91840" indent="-2260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28016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B74AA3-9AA7-42F7-A56A-C9E13F7C315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258920" y="836640"/>
            <a:ext cx="66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NEW MODES OF GATHERING SURVEY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195640" y="2781360"/>
            <a:ext cx="50403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ELLULAR PH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24000" y="189000"/>
            <a:ext cx="8496000" cy="6408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uan Díez Nicolás</dc:creator>
  <dc:description/>
  <dc:language>en-US</dc:language>
  <cp:lastModifiedBy>NickM</cp:lastModifiedBy>
  <cp:revision>0</cp:revision>
  <dc:subject/>
  <dc:title>Sin título de diapositiva</dc:title>
</cp:coreProperties>
</file>